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4502-1DB6-4821-B7EB-7CF55F72D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5EAC-4D7E-4925-8A15-E5A1304B0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F825-08DD-4269-B718-47C85942D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F2E4-B0F4-421A-B846-9F99E1B4C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9866-55CF-4A94-B0A0-83F7CBF5E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E3F3-9341-46FA-8B04-D4834589C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D41B-D23B-46CA-AB8A-847013B2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115 minutes, split up by l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950C-C034-4556-9500-82418BA85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08E6-CAF9-4177-9DBF-FE86313C2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36E0-2F57-4E7B-8DA2-F85C9F951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10E0-2E7E-4796-A5F8-483013D6B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5D12-E9CB-4B2B-93E2-65F38761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61BA-5108-402D-A32D-4C55F9981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mmm do we sense a theme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479B-F741-4ECA-872E-945EEE493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CF15-749E-404F-A02F-73F618864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9687-FC6F-4F37-AD97-F9655A210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49FE-17A6-44D2-8DE5-4F10185F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38E0-81FD-49EF-8D37-10457048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4D22-A96F-45BE-A1EA-188A170B3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F9BE-A5C3-45AB-BBFA-36C381D3F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E8E-3EEA-4E08-9BEB-05A98E80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C08-91A4-4D82-937D-56170037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A60-0B64-41A2-9438-610387F4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052-B74D-4F5F-96A3-FCB61351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B258-6E59-4187-8EC8-C36D52EB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EC94-B6B2-42CA-BDFB-21DDD7FD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0A78-9832-4957-B7B9-42942D8B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066D-EAC4-4B65-A78F-729BE559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54C9-8044-46DD-9A60-4C087840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61E6-634E-4841-AE2D-58B1900A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3D0E-101B-4DCD-9352-C8E7D2C4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936-6B65-487B-AD8F-4CB541A6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A870-6796-4213-9DAC-7131494A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530D-084B-49A6-8225-933E0980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532D-40B8-47C3-BE19-49913632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2D31-F647-4582-AB2E-FBFBCDA5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2DB7-D6E8-4CCE-9934-55AE0BA3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E29-5BC6-42FF-82E0-6873E212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9B8-7E87-49B5-8487-49B168F1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2F5-CCCE-4DAE-96F5-1D85259D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FD7-1A27-4635-A0A0-FD1D1CC9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8AE-F522-49B0-8DC3-E97E0802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551-86D6-4C84-9D9C-8758193B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506-F8A5-424F-8983-4623E3C2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9615-F281-4B61-A5D9-22135AB1229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5830-2CEB-461B-B1DA-27F16809AFA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Modelling in a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How did you determine the equ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How would the function change if the given point (-1, 5) changed to (-1, -5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25"/>
                            </p:stCondLst>
                            <p:childTnLst>
                              <p:par>
                                <p:cTn id="6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75"/>
                            </p:stCondLst>
                            <p:childTnLst>
                              <p:par>
                                <p:cTn id="6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900"/>
                            </p:stCondLst>
                            <p:childTnLst>
                              <p:par>
                                <p:cTn id="6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650"/>
                            </p:stCondLst>
                            <p:childTnLst>
                              <p:par>
                                <p:cTn id="7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50"/>
                            </p:stCondLst>
                            <p:childTnLst>
                              <p:par>
                                <p:cTn id="7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200"/>
                            </p:stCondLst>
                            <p:childTnLst>
                              <p:par>
                                <p:cTn id="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700"/>
                            </p:stCondLst>
                            <p:childTnLst>
                              <p:par>
                                <p:cTn id="8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200"/>
                            </p:stCondLst>
                            <p:childTnLst>
                              <p:par>
                                <p:cTn id="9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5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700"/>
                            </p:stCondLst>
                            <p:childTnLst>
                              <p:par>
                                <p:cTn id="99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0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325"/>
                            </p:stCondLst>
                            <p:childTnLst>
                              <p:par>
                                <p:cTn id="10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0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775"/>
                            </p:stCondLst>
                            <p:childTnLst>
                              <p:par>
                                <p:cTn id="10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50"/>
                            </p:stCondLst>
                            <p:childTnLst>
                              <p:par>
                                <p:cTn id="108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300"/>
                            </p:stCondLst>
                            <p:childTnLst>
                              <p:par>
                                <p:cTn id="1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700"/>
                            </p:stCondLst>
                            <p:childTnLst>
                              <p:par>
                                <p:cTn id="12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750"/>
                            </p:stCondLst>
                            <p:childTnLst>
                              <p:par>
                                <p:cTn id="126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7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3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3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8250"/>
                            </p:stCondLst>
                            <p:childTnLst>
                              <p:par>
                                <p:cTn id="13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 con’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m a group with others working on the sam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task by selecting one of the questions and then prompt each other using the follow-up questions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ch the parallel task to a big idea and then find all the expectations that are addressed by the two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 </a:t>
            </a:r>
            <a:br>
              <a:rPr sz="4400"/>
            </a:b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4 U 2 do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one struggle that you believe your students have when studying quadratics and the corresponding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like-minded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one parallel task as well as the follow-u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lgebra Ti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9538" t="17499" r="0" b="0"/>
          <a:stretch/>
        </p:blipFill>
        <p:spPr>
          <a:xfrm>
            <a:off x="1452600" y="1857240"/>
            <a:ext cx="6548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4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25"/>
                            </p:stCondLst>
                            <p:childTnLst>
                              <p:par>
                                <p:cTn id="14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4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75"/>
                            </p:stCondLst>
                            <p:childTnLst>
                              <p:par>
                                <p:cTn id="15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5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900"/>
                            </p:stCondLst>
                            <p:childTnLst>
                              <p:par>
                                <p:cTn id="1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650"/>
                            </p:stCondLst>
                            <p:childTnLst>
                              <p:par>
                                <p:cTn id="15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50"/>
                            </p:stCondLst>
                            <p:childTnLst>
                              <p:par>
                                <p:cTn id="16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7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700"/>
                            </p:stCondLst>
                            <p:childTnLst>
                              <p:par>
                                <p:cTn id="17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200"/>
                            </p:stCondLst>
                            <p:childTnLst>
                              <p:par>
                                <p:cTn id="18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3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4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700"/>
                            </p:stCondLst>
                            <p:childTnLst>
                              <p:par>
                                <p:cTn id="186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8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325"/>
                            </p:stCondLst>
                            <p:childTnLst>
                              <p:par>
                                <p:cTn id="189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9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775"/>
                            </p:stCondLst>
                            <p:childTnLst>
                              <p:par>
                                <p:cTn id="1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9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050"/>
                            </p:stCondLst>
                            <p:childTnLst>
                              <p:par>
                                <p:cTn id="195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700"/>
                            </p:stCondLst>
                            <p:childTnLst>
                              <p:par>
                                <p:cTn id="2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750"/>
                            </p:stCondLst>
                            <p:childTnLst>
                              <p:par>
                                <p:cTn id="213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4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750"/>
                            </p:stCondLst>
                            <p:childTnLst>
                              <p:par>
                                <p:cTn id="2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9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0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1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250"/>
                            </p:stCondLst>
                            <p:childTnLst>
                              <p:par>
                                <p:cTn id="22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4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Revisiting l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hange parallel tasks for feedback, using the prob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3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25"/>
                            </p:stCondLst>
                            <p:childTnLst>
                              <p:par>
                                <p:cTn id="234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3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75"/>
                            </p:stCondLst>
                            <p:childTnLst>
                              <p:par>
                                <p:cTn id="23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38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900"/>
                            </p:stCondLst>
                            <p:childTnLst>
                              <p:par>
                                <p:cTn id="24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650"/>
                            </p:stCondLst>
                            <p:childTnLst>
                              <p:par>
                                <p:cTn id="24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25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200"/>
                            </p:stCondLst>
                            <p:childTnLst>
                              <p:par>
                                <p:cTn id="25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1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700"/>
                            </p:stCondLst>
                            <p:childTnLst>
                              <p:par>
                                <p:cTn id="2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200"/>
                            </p:stCondLst>
                            <p:childTnLst>
                              <p:par>
                                <p:cTn id="26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9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1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700"/>
                            </p:stCondLst>
                            <p:childTnLst>
                              <p:par>
                                <p:cTn id="273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7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325"/>
                            </p:stCondLst>
                            <p:childTnLst>
                              <p:par>
                                <p:cTn id="276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7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775"/>
                            </p:stCondLst>
                            <p:childTnLst>
                              <p:par>
                                <p:cTn id="279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3050"/>
                            </p:stCondLst>
                            <p:childTnLst>
                              <p:par>
                                <p:cTn id="282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300"/>
                            </p:stCondLst>
                            <p:childTnLst>
                              <p:par>
                                <p:cTn id="28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700"/>
                            </p:stCondLst>
                            <p:childTnLst>
                              <p:par>
                                <p:cTn id="29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6750"/>
                            </p:stCondLst>
                            <p:childTnLst>
                              <p:par>
                                <p:cTn id="300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1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2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3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7750"/>
                            </p:stCondLst>
                            <p:childTnLst>
                              <p:par>
                                <p:cTn id="30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6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7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8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8250"/>
                            </p:stCondLst>
                            <p:childTnLst>
                              <p:par>
                                <p:cTn id="31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1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3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8" descr="C:\Users\Chili\AppData\Local\Microsoft\Windows\Temporary Internet Files\Content.IE5\BH9ZW7WV\MCj03963280000[1].wmf"/>
          <p:cNvPicPr/>
          <p:nvPr/>
        </p:nvPicPr>
        <p:blipFill>
          <a:blip r:embed="rId1"/>
          <a:srcRect l="25091" t="18386" r="64461" b="18386"/>
          <a:stretch/>
        </p:blipFill>
        <p:spPr>
          <a:xfrm>
            <a:off x="7358040" y="3429000"/>
            <a:ext cx="357120" cy="2214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4" name="Picture 13" descr="C:\Users\Chili\AppData\Local\Microsoft\Windows\Temporary Internet Files\Content.IE5\X3U5RRU8\MMj03566040000[1].gif"/>
          <p:cNvPicPr/>
          <p:nvPr/>
        </p:nvPicPr>
        <p:blipFill>
          <a:blip r:embed="rId2"/>
          <a:stretch/>
        </p:blipFill>
        <p:spPr>
          <a:xfrm>
            <a:off x="4643280" y="371484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785880" y="20001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lease fill in your exit card and hand it in to one of us as you leave!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8" descr="C:\Users\Chili\AppData\Local\Microsoft\Windows\Temporary Internet Files\Content.IE5\BH9ZW7WV\MCj03963280000[1].wmf"/>
          <p:cNvPicPr/>
          <p:nvPr/>
        </p:nvPicPr>
        <p:blipFill>
          <a:blip r:embed="rId3"/>
          <a:srcRect l="35579" t="18386" r="22630" b="10197"/>
          <a:stretch/>
        </p:blipFill>
        <p:spPr>
          <a:xfrm>
            <a:off x="7715160" y="3429000"/>
            <a:ext cx="1428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mon threads in student struggles for ou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Algebraic manipulation (factoring, completing the square, expanding, etc…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Connecting the concrete to abstract concept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Understanding graph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Connecting representation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Making connections in genera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mon threads in our own stru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How do we find time to create all this ‘stuff’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How do we find time to deliver all this ‘stuff’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How to modify favourite activities to incorporate high yield strategi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Connecting abstract and concrete idea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do we use algebra tiles effectively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he meaning/differences between the big ideas and writing lesson goal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do we get to the skills to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20" y="1785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termine the equation of a function with the following 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1680" y="2928960"/>
          <a:ext cx="7358040" cy="2652840"/>
        </p:xfrm>
        <a:graphic>
          <a:graphicData uri="http://schemas.openxmlformats.org/drawingml/2006/table">
            <a:tbl>
              <a:tblPr/>
              <a:tblGrid>
                <a:gridCol w="3679560"/>
                <a:gridCol w="367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4 and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          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6143760" y="4500720"/>
                <a:ext cx="97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4643280" y="4929120"/>
                <a:ext cx="973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draw a grap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use algeb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ich did you do first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ould you have predicted whether the ‘a’ value was positive or negative before you actually calculated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s the value of ‘a’ what you expect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xpl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need all three pieces of informa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y? Or Why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C Chilvers</cp:lastModifiedBy>
  <dcterms:modified xsi:type="dcterms:W3CDTF">2009-08-19T13:38:41Z</dcterms:modified>
  <cp:revision>144</cp:revision>
  <dc:subject/>
  <dc:title>Slide 1</dc:title>
</cp:coreProperties>
</file>